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click.wav" ContentType="audio/x-wav"/>
  <Override PartName="/ppt/media/image7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wind.wav" ContentType="audio/x-wav"/>
  <Override PartName="/ppt/media/image1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3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24.gif" ContentType="image/gif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0AFA-3E6E-4D51-956B-9D90979ED8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E764-CF6A-42D5-81C6-931CFF3E5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9E3-351E-488F-93C9-C1723BA8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13D-62B3-4CFD-8263-FD4159FC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475-05C5-414F-82E4-0BB2DB44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70C-8E76-4EDB-A159-6DB211A8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AFC-9DF1-4626-9E35-BAF7A56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F2D-22FF-4967-A93B-938FF43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5B3-16FA-422C-88A1-38F05B1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91A-841B-4B69-8BA2-6B12798A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F83-C194-492E-B834-2C51A6A2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DC2-278B-446E-A175-E4268D8C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1EE-0C74-4E3A-8481-A893581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893-0C53-4CB4-AAA5-F32A551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71B7-44DB-4283-B895-268903413C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957240"/>
            <a:ext cx="7645320" cy="1536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2651040"/>
            <a:ext cx="7724880" cy="149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\LOCALS~1\Temp\Rar$DR03.578\компьютеры\komp11.gif"/>
          <p:cNvPicPr/>
          <p:nvPr/>
        </p:nvPicPr>
        <p:blipFill>
          <a:blip r:embed="rId1"/>
          <a:stretch/>
        </p:blipFill>
        <p:spPr>
          <a:xfrm>
            <a:off x="6858000" y="4572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1785960" y="500040"/>
            <a:ext cx="5145120" cy="920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000080" y="14288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the words with necessary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1000080" y="1968480"/>
            <a:ext cx="2621160" cy="1542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4"/>
          <a:stretch/>
        </p:blipFill>
        <p:spPr>
          <a:xfrm>
            <a:off x="4621320" y="2755800"/>
            <a:ext cx="2724120" cy="1455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5"/>
          <a:stretch/>
        </p:blipFill>
        <p:spPr>
          <a:xfrm>
            <a:off x="1090440" y="3541680"/>
            <a:ext cx="3652920" cy="1542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0" descr=""/>
          <p:cNvPicPr/>
          <p:nvPr/>
        </p:nvPicPr>
        <p:blipFill>
          <a:blip r:embed="rId6"/>
          <a:stretch/>
        </p:blipFill>
        <p:spPr>
          <a:xfrm>
            <a:off x="4486320" y="1962000"/>
            <a:ext cx="3882960" cy="1536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7"/>
          <a:stretch/>
        </p:blipFill>
        <p:spPr>
          <a:xfrm>
            <a:off x="1066680" y="2792520"/>
            <a:ext cx="28353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8"/>
          <a:stretch/>
        </p:blipFill>
        <p:spPr>
          <a:xfrm>
            <a:off x="4638600" y="3571920"/>
            <a:ext cx="3865680" cy="15494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9"/>
          <a:stretch/>
        </p:blipFill>
        <p:spPr>
          <a:xfrm>
            <a:off x="1719360" y="1938240"/>
            <a:ext cx="1285920" cy="1530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0"/>
          <a:stretch/>
        </p:blipFill>
        <p:spPr>
          <a:xfrm>
            <a:off x="1779480" y="2792520"/>
            <a:ext cx="10731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1"/>
          <a:stretch/>
        </p:blipFill>
        <p:spPr>
          <a:xfrm>
            <a:off x="1225440" y="3505320"/>
            <a:ext cx="131616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2"/>
          <a:stretch/>
        </p:blipFill>
        <p:spPr>
          <a:xfrm>
            <a:off x="2657520" y="3505320"/>
            <a:ext cx="1317600" cy="1530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3"/>
          <a:stretch/>
        </p:blipFill>
        <p:spPr>
          <a:xfrm>
            <a:off x="48639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1" descr=""/>
          <p:cNvPicPr/>
          <p:nvPr/>
        </p:nvPicPr>
        <p:blipFill>
          <a:blip r:embed="rId14"/>
          <a:stretch/>
        </p:blipFill>
        <p:spPr>
          <a:xfrm>
            <a:off x="62913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15"/>
          <a:stretch/>
        </p:blipFill>
        <p:spPr>
          <a:xfrm>
            <a:off x="679140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3" descr=""/>
          <p:cNvPicPr/>
          <p:nvPr/>
        </p:nvPicPr>
        <p:blipFill>
          <a:blip r:embed="rId16"/>
          <a:stretch/>
        </p:blipFill>
        <p:spPr>
          <a:xfrm>
            <a:off x="6254640" y="2755800"/>
            <a:ext cx="1005120" cy="1455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4" descr=""/>
          <p:cNvPicPr/>
          <p:nvPr/>
        </p:nvPicPr>
        <p:blipFill>
          <a:blip r:embed="rId17"/>
          <a:stretch/>
        </p:blipFill>
        <p:spPr>
          <a:xfrm>
            <a:off x="5864400" y="3571920"/>
            <a:ext cx="1304640" cy="15494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5" descr=""/>
          <p:cNvPicPr/>
          <p:nvPr/>
        </p:nvPicPr>
        <p:blipFill>
          <a:blip r:embed="rId18"/>
          <a:stretch/>
        </p:blipFill>
        <p:spPr>
          <a:xfrm>
            <a:off x="7424640" y="3571920"/>
            <a:ext cx="12621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~1\admin\LOCALS~1\Temp\Rar$DR16.453\компьютеры\komp42.gif"/>
          <p:cNvPicPr/>
          <p:nvPr/>
        </p:nvPicPr>
        <p:blipFill>
          <a:blip r:embed="rId1"/>
          <a:stretch/>
        </p:blipFill>
        <p:spPr>
          <a:xfrm>
            <a:off x="8072280" y="428760"/>
            <a:ext cx="771840" cy="952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1925640" y="285840"/>
            <a:ext cx="521820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3"/>
          <a:stretch/>
        </p:blipFill>
        <p:spPr>
          <a:xfrm>
            <a:off x="1670040" y="1006560"/>
            <a:ext cx="5979960" cy="1528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85960" y="2714760"/>
            <a:ext cx="3143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500800" y="2703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6. 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7.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8.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9.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10. De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type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~1\admin\LOCALS~1\Temp\Rar$DR10.281\компьютеры\komp28.gif"/>
          <p:cNvPicPr/>
          <p:nvPr/>
        </p:nvPicPr>
        <p:blipFill>
          <a:blip r:embed="rId1"/>
          <a:stretch/>
        </p:blipFill>
        <p:spPr>
          <a:xfrm>
            <a:off x="7858080" y="357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" descr=""/>
          <p:cNvPicPr/>
          <p:nvPr/>
        </p:nvPicPr>
        <p:blipFill>
          <a:blip r:embed="rId2"/>
          <a:stretch/>
        </p:blipFill>
        <p:spPr>
          <a:xfrm>
            <a:off x="2646360" y="212760"/>
            <a:ext cx="421164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3"/>
          <a:stretch/>
        </p:blipFill>
        <p:spPr>
          <a:xfrm>
            <a:off x="1139760" y="1542960"/>
            <a:ext cx="771840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lick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426960"/>
            <a:ext cx="4718160" cy="925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1438200"/>
            <a:ext cx="6321600" cy="1530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571760" y="2857680"/>
            <a:ext cx="228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714920" y="2928960"/>
            <a:ext cx="3143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rub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iction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ompu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p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wind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26:00Z</dcterms:created>
  <dc:creator>Информатика-администратор</dc:creator>
  <dc:description/>
  <dc:language>en-US</dc:language>
  <cp:lastModifiedBy>user</cp:lastModifiedBy>
  <dcterms:modified xsi:type="dcterms:W3CDTF">2012-04-18T08:48:12Z</dcterms:modified>
  <cp:revision>13</cp:revision>
  <dc:subject/>
  <dc:title>Слайд 1</dc:title>
</cp:coreProperties>
</file>